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70B-7393-4AC8-ABB1-2DF43359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DCF-50A4-45A8-B0A1-AE6B036E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5B9-37FF-449B-9CC0-44013A09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DD5-04C1-4D01-8C19-821A872A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4E9-89A8-4B30-B97E-7E20B7B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A4A-6A35-429B-A166-E8ABCC5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90D-C167-449A-9249-0F7A067B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100-363A-483D-8592-20A49FB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975-634A-45E3-A35D-2422DA1C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C72-D1FF-489E-BFF4-E5BDDF3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113-7BB9-47A3-984F-0D490DD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B6A-AC10-4358-9B9C-2028845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238E-A1AB-43A1-886A-1A48AB466F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A629-5E0B-4A8B-9E53-79A49DB6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3716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762120"/>
            <a:ext cx="62485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elements is NOT responsible for a significant portion of the mass of living th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556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Sulf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33520"/>
            <a:ext cx="56390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of the following are inorganic compounds excep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cloric ac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dium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447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219320"/>
            <a:ext cx="563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tom becomes a cation if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It gains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Loses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Shares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523880"/>
            <a:ext cx="579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75248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Loses an elec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1219320"/>
            <a:ext cx="4419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ocess where water molecules surround ions during the process of dissolving is call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523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yd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295280"/>
            <a:ext cx="579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characteristic of water molecules directly contributes to the remarkable “water walking” success of water striders?  (bugs that walk on water’s surfa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3623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685800"/>
            <a:ext cx="6858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NOT a characteristic of a living th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to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57200"/>
            <a:ext cx="6781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kind of isomers are these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ic, enantiomers or polym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8848800" cy="227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9051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ometric iso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11430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20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2819520"/>
            <a:ext cx="4647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reaction i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3716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  hydr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6002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ifference between a hexose and a pentose is th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066680"/>
            <a:ext cx="4876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xose has 6 carbons and a pentose has 5 carb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048040" cy="2133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619360" cy="289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523880"/>
            <a:ext cx="6858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ydrolysis of a triacylglycerol will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glycerols and one fatty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atty acides and one 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13372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Three fatty acids and one glyce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685800"/>
            <a:ext cx="6781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abundant molecules in a cell membran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cylglyce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0574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phosph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3623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21932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imary difference between the 20 different amino acids that make up proteins i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447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5238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it advantageous for a cell to be sm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1828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s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990720"/>
            <a:ext cx="5715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lipids can form bilayer structures because of the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hipathic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dissolve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752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 Amphipathic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457200"/>
            <a:ext cx="63244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component of a eukaryotic cell membr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1600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  cholester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67652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red blood cells are placed in a hypertonic external solution, they will:  shrink or swe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905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hri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685800"/>
            <a:ext cx="7010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t plants and animals reproduce (sexually/asexually) which (increases/decreases) genetic 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219320"/>
            <a:ext cx="701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rve cells are arrested prior to _____ of the cell cyc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057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 ph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449280"/>
            <a:ext cx="61722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does not require ener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13716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  osm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990720"/>
            <a:ext cx="6172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uman white blood cell engulfs a bacterial cell b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g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9051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  phagocyt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1280880"/>
            <a:ext cx="7162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igher the concentration of solute in a solution, the ____ the effective water concentration and the _____ the osmotic press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286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, hig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21932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tient hemorrhages and receives a large transfusion of distilled water into a major blood vessel.  What happens? 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60020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fatal consequences:  RBC will swell and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8288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xually/incr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1905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467480" cy="4003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752480" y="30492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SOLUTION is Hypertonic?  Hypotonic?  Isoton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238880" cy="3880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676520" y="457200"/>
            <a:ext cx="4952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 iso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762120"/>
            <a:ext cx="58672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in living things can be transmitted:  genes, hormones, electrical activity and neurotransmi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190512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295280"/>
            <a:ext cx="6400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ultimate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of genetic variation 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810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utations in D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09-01-06T18:40:51Z</dcterms:modified>
  <cp:revision>37</cp:revision>
  <dc:subject/>
  <dc:title>Blank Jeopardy</dc:title>
</cp:coreProperties>
</file>